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3087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90066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  <a:p>
            <a:pPr lvl="1" marL="379440" indent="0"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94680" algn="ctr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9468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17760" indent="10152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0033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hapter 14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37960" y="1531440"/>
            <a:ext cx="8677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93366"/>
                </a:solidFill>
                <a:latin typeface="Times New Roman"/>
              </a:rPr>
              <a:t>Mendel and the Gene Idea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 chose to tr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hose characters that varied in an “either-or”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 also made sure th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tarted his experiments with varieties that were “true-breed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 typical breeding experi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del mated two contrasting, true-breeding varieties, a process called 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rue-breeding par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alled the P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hybrid offspring of the P gen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alled th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dividuals self-pollin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aw of Segreg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7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Mendel crossed contrasting, true-breeding white and purple flowered pea pl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 offspring were pur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Mendel crossed the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 plants had purple flowers, but some had white f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 discov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ratio of about three to one, purple to white flowers, in the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gene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66520" y="6171840"/>
            <a:ext cx="11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765680" y="2414520"/>
            <a:ext cx="4073400" cy="3997440"/>
            <a:chOff x="4765680" y="2414520"/>
            <a:chExt cx="4073400" cy="399744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4765680" y="2414520"/>
              <a:ext cx="4073400" cy="39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121720" y="2608200"/>
              <a:ext cx="979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 Gene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true-breed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s)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26320" y="3074400"/>
              <a:ext cx="585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urp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low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72320" y="3079080"/>
              <a:ext cx="585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low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45080" y="2655720"/>
              <a:ext cx="305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31800" y="3972240"/>
              <a:ext cx="9925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hybrid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99560" y="4417560"/>
              <a:ext cx="9712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l plants h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urple flow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28560" y="5310360"/>
              <a:ext cx="9925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777960" y="2367720"/>
            <a:ext cx="3758760" cy="916560"/>
            <a:chOff x="777960" y="2367720"/>
            <a:chExt cx="3758760" cy="916560"/>
          </a:xfrm>
        </p:grpSpPr>
        <p:sp>
          <p:nvSpPr>
            <p:cNvPr id="241" name=""/>
            <p:cNvSpPr/>
            <p:nvPr/>
          </p:nvSpPr>
          <p:spPr>
            <a:xfrm>
              <a:off x="826920" y="2432160"/>
              <a:ext cx="938520" cy="152280"/>
            </a:xfrm>
            <a:prstGeom prst="rect">
              <a:avLst/>
            </a:prstGeom>
            <a:solidFill>
              <a:srgbClr val="009999"/>
            </a:solidFill>
            <a:ln w="349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7960" y="2367720"/>
              <a:ext cx="37587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XPERIMEN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True-breeding purple-flowered pea plants 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hite-flowered pea plants were crossed (symbolized by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). T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ulting 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hybrids were allowed to self-pollinate or were cro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llinated with other 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hybrids. Flower color was then observ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 the 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generation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912600" y="4866480"/>
            <a:ext cx="3629160" cy="722520"/>
            <a:chOff x="912600" y="4866480"/>
            <a:chExt cx="3629160" cy="722520"/>
          </a:xfrm>
        </p:grpSpPr>
        <p:sp>
          <p:nvSpPr>
            <p:cNvPr id="244" name=""/>
            <p:cNvSpPr/>
            <p:nvPr/>
          </p:nvSpPr>
          <p:spPr>
            <a:xfrm>
              <a:off x="927000" y="4911840"/>
              <a:ext cx="762120" cy="142920"/>
            </a:xfrm>
            <a:prstGeom prst="rect">
              <a:avLst/>
            </a:prstGeom>
            <a:solidFill>
              <a:srgbClr val="009999"/>
            </a:solidFill>
            <a:ln w="349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12600" y="4866480"/>
              <a:ext cx="362916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SULT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Both purple-flowered plants and whit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lowered plants appeared in the 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generation. In Mendel’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periment, 705 plants had purple flowers, and 224 had wh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lowers, a ratio of about 3 purple : 1 whit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 reasoned th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nts, only the purple flower factor was affecting flower color in these hybr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le flower color was dominant, and white flower color was rec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 observed the same patte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ny other pea plant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118600" y="2079720"/>
            <a:ext cx="4150080" cy="4397760"/>
            <a:chOff x="2118600" y="2079720"/>
            <a:chExt cx="4150080" cy="4397760"/>
          </a:xfrm>
        </p:grpSpPr>
        <p:sp>
          <p:nvSpPr>
            <p:cNvPr id="251" name=""/>
            <p:cNvSpPr/>
            <p:nvPr/>
          </p:nvSpPr>
          <p:spPr>
            <a:xfrm>
              <a:off x="2118600" y="6171840"/>
              <a:ext cx="1047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ble 14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1"/>
            <a:stretch/>
          </p:blipFill>
          <p:spPr>
            <a:xfrm>
              <a:off x="3189240" y="2079720"/>
              <a:ext cx="3079440" cy="434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Mendel’s Model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 developed a hypoth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lain the 3:1 inheritance pattern that he observed among th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 related concepts make up this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, alternative versions of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 for variations in inherited characters, which are now called all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20360" y="2797200"/>
            <a:ext cx="7700400" cy="3248280"/>
            <a:chOff x="720360" y="2797200"/>
            <a:chExt cx="7700400" cy="3248280"/>
          </a:xfrm>
        </p:grpSpPr>
        <p:sp>
          <p:nvSpPr>
            <p:cNvPr id="258" name=""/>
            <p:cNvSpPr/>
            <p:nvPr/>
          </p:nvSpPr>
          <p:spPr>
            <a:xfrm>
              <a:off x="720360" y="57398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4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1976400" y="2797200"/>
              <a:ext cx="6444360" cy="3248280"/>
              <a:chOff x="1976400" y="2797200"/>
              <a:chExt cx="6444360" cy="3248280"/>
            </a:xfrm>
          </p:grpSpPr>
          <p:pic>
            <p:nvPicPr>
              <p:cNvPr id="26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76400" y="3382920"/>
                <a:ext cx="5047920" cy="209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5439600" y="2797200"/>
                <a:ext cx="1626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llele for purple flow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252840" y="3057480"/>
                <a:ext cx="0" cy="41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61600" y="4292640"/>
                <a:ext cx="18540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ocus for flower-color ge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795640" y="4505400"/>
                <a:ext cx="457200" cy="398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5795640" y="3903480"/>
                <a:ext cx="432000" cy="44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091280" y="3286080"/>
                <a:ext cx="304560" cy="2209680"/>
              </a:xfrm>
              <a:custGeom>
                <a:avLst/>
                <a:gdLst>
                  <a:gd name="textAreaLeft" fmla="*/ 0 w 304560"/>
                  <a:gd name="textAreaRight" fmla="*/ 109800 w 304560"/>
                  <a:gd name="textAreaTop" fmla="*/ 57600 h 2209680"/>
                  <a:gd name="textAreaBottom" fmla="*/ 2152080 h 220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369920" y="4108320"/>
                <a:ext cx="105084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Homologou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air o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hromosom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431320" y="5800680"/>
                <a:ext cx="1564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llele for white flow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40240" y="5373720"/>
                <a:ext cx="0" cy="41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, for each charac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rganism inherits two alleles, one from each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enetic locus is actually represented tw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view: Drawing from the Deck of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genetic principles account for the transmission of traits from parents to offspr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, if the two alleles at a locus di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one, the dominant allele, determines the organism’s app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ther allele, the recessive allele, has no noticeable effect on the organism’s app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, the law of segreg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alleles for a heritable character separate (segregate) during gamete formation and end up in different gam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6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Mendel’s segregation model account for the 3:1 ratio he observed in the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neration of his numerous cross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answer this question using a Punnett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’s law of segregation, probability and the Punnett squ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606760" y="1739880"/>
            <a:ext cx="4775040" cy="473220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1468080" y="1821240"/>
            <a:ext cx="5971320" cy="4721400"/>
            <a:chOff x="1468080" y="1821240"/>
            <a:chExt cx="5971320" cy="4721400"/>
          </a:xfrm>
        </p:grpSpPr>
        <p:sp>
          <p:nvSpPr>
            <p:cNvPr id="282" name=""/>
            <p:cNvSpPr/>
            <p:nvPr/>
          </p:nvSpPr>
          <p:spPr>
            <a:xfrm>
              <a:off x="1468080" y="623700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4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67160" y="5559480"/>
              <a:ext cx="128520" cy="1285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4760280" y="1870200"/>
              <a:ext cx="1030320" cy="3364200"/>
              <a:chOff x="4760280" y="1870200"/>
              <a:chExt cx="1030320" cy="3364200"/>
            </a:xfrm>
          </p:grpSpPr>
          <p:sp>
            <p:nvSpPr>
              <p:cNvPr id="285" name=""/>
              <p:cNvSpPr/>
              <p:nvPr/>
            </p:nvSpPr>
            <p:spPr>
              <a:xfrm>
                <a:off x="4771440" y="1870200"/>
                <a:ext cx="9730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P Gene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760280" y="3338640"/>
                <a:ext cx="1008000" cy="26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r>
                  <a:rPr b="1" lang="en-US" sz="10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Gene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782600" y="4968720"/>
                <a:ext cx="1008000" cy="26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r>
                  <a:rPr b="1" lang="en-US" sz="10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Gene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044760" y="2660760"/>
              <a:ext cx="268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01840" y="263700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22800" y="4105440"/>
              <a:ext cx="268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11560" y="408312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94160" y="4770360"/>
              <a:ext cx="268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21120" y="476244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22640" y="5148360"/>
              <a:ext cx="268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27320" y="558000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40120" y="5267160"/>
              <a:ext cx="33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21440" y="5278320"/>
              <a:ext cx="35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97000" y="572616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21080" y="5732640"/>
              <a:ext cx="339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63160" y="2187720"/>
              <a:ext cx="1140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ppearance: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tic makeup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75400" y="2212920"/>
              <a:ext cx="985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urple flowers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96920" y="2216160"/>
              <a:ext cx="94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hite flowers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96240" y="3726000"/>
              <a:ext cx="985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urple flowers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77200" y="3619440"/>
              <a:ext cx="1140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ppearance: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tic makeup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68200" y="2608200"/>
              <a:ext cx="73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ame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77560" y="4040280"/>
              <a:ext cx="73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ame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64680" y="4553640"/>
              <a:ext cx="6908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spe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37000" y="5348880"/>
              <a:ext cx="61308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egg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85920" y="4030200"/>
              <a:ext cx="3513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40120" y="4015800"/>
              <a:ext cx="3513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33200" y="1909440"/>
              <a:ext cx="346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71560" y="1821240"/>
              <a:ext cx="18630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ach true-breeding plant of th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ental generation has identic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lleles,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PP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or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pp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ametes (circles) each contain only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ne allele for the flower-color gene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 this case, every gamete produce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y one parent has the same allel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76600" y="3166200"/>
              <a:ext cx="1821960" cy="13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nion of the parental gamete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duces F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hybrids having a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Pp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bination. Because the purple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lower allele is dominant, a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se hybrids have purple flower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hen the hybrid plants produ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ametes, the two alleles segregate,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alf the gametes receiving the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llele and the other half the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allel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82840" y="610560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86040" y="611676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11600" y="5667480"/>
              <a:ext cx="128520" cy="1285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18640" y="5910480"/>
              <a:ext cx="185400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andom combination of the game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ults in the 3:1 ratio that Mend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served in the F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generation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19000" y="4648320"/>
              <a:ext cx="1981800" cy="12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is box, a Punnett square, show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ll possible combinations of allele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 offspring that result from a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F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Pp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Pp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) cross. Each squar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resents an equally probable produc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 fertilization. For example, the bott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ft box shows the genetic combin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ulting from a  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egg fertilized b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 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P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erm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Useful Genetic Vocabula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rganism that is homozygous for a particular ge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pair of identical alleles for that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hibits true-br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rganism that is heterozygous for a particular ge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pair of alleles that are different for that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rganism’s phenoty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s physical app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rganism’s genoty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s genetic make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enotype versus genoty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834480" y="1214280"/>
            <a:ext cx="7405560" cy="5294880"/>
            <a:chOff x="834480" y="1214280"/>
            <a:chExt cx="7405560" cy="5294880"/>
          </a:xfrm>
        </p:grpSpPr>
        <p:sp>
          <p:nvSpPr>
            <p:cNvPr id="326" name=""/>
            <p:cNvSpPr/>
            <p:nvPr/>
          </p:nvSpPr>
          <p:spPr>
            <a:xfrm>
              <a:off x="834480" y="620352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827720" y="1214280"/>
              <a:ext cx="6412320" cy="5284800"/>
              <a:chOff x="1827720" y="1214280"/>
              <a:chExt cx="6412320" cy="5284800"/>
            </a:xfrm>
          </p:grpSpPr>
          <p:pic>
            <p:nvPicPr>
              <p:cNvPr id="32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333160" y="1516680"/>
                <a:ext cx="5350680" cy="466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2049840" y="1522800"/>
                <a:ext cx="222840" cy="3476880"/>
              </a:xfrm>
              <a:custGeom>
                <a:avLst/>
                <a:gdLst>
                  <a:gd name="textAreaLeft" fmla="*/ 142560 w 222840"/>
                  <a:gd name="textAreaRight" fmla="*/ 223200 w 222840"/>
                  <a:gd name="textAreaTop" fmla="*/ 90360 h 3476880"/>
                  <a:gd name="textAreaBottom" fmla="*/ 3386520 h 3476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143800" y="5093640"/>
                <a:ext cx="128880" cy="1068840"/>
              </a:xfrm>
              <a:custGeom>
                <a:avLst/>
                <a:gdLst>
                  <a:gd name="textAreaLeft" fmla="*/ 82440 w 128880"/>
                  <a:gd name="textAreaRight" fmla="*/ 128880 w 128880"/>
                  <a:gd name="textAreaTop" fmla="*/ 27720 h 1068840"/>
                  <a:gd name="textAreaBottom" fmla="*/ 1041120 h 106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827720" y="312624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942920" y="5487120"/>
                <a:ext cx="247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745760" y="1522800"/>
                <a:ext cx="176040" cy="1080360"/>
              </a:xfrm>
              <a:custGeom>
                <a:avLst/>
                <a:gdLst>
                  <a:gd name="textAreaLeft" fmla="*/ 0 w 176040"/>
                  <a:gd name="textAreaRight" fmla="*/ 63360 w 176040"/>
                  <a:gd name="textAreaTop" fmla="*/ 28080 h 1080360"/>
                  <a:gd name="textAreaBottom" fmla="*/ 1052280 h 108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733520" y="2720880"/>
                <a:ext cx="281880" cy="2255040"/>
              </a:xfrm>
              <a:custGeom>
                <a:avLst/>
                <a:gdLst>
                  <a:gd name="textAreaLeft" fmla="*/ 0 w 281880"/>
                  <a:gd name="textAreaRight" fmla="*/ 101880 w 281880"/>
                  <a:gd name="textAreaTop" fmla="*/ 58680 h 2255040"/>
                  <a:gd name="textAreaBottom" fmla="*/ 2196360 h 225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745760" y="5093640"/>
                <a:ext cx="176040" cy="1080720"/>
              </a:xfrm>
              <a:custGeom>
                <a:avLst/>
                <a:gdLst>
                  <a:gd name="textAreaLeft" fmla="*/ 0 w 176040"/>
                  <a:gd name="textAreaRight" fmla="*/ 63360 w 176040"/>
                  <a:gd name="textAreaTop" fmla="*/ 28080 h 1080720"/>
                  <a:gd name="textAreaBottom" fmla="*/ 1052640 h 108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885080" y="5499000"/>
                <a:ext cx="249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992360" y="3722040"/>
                <a:ext cx="247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886520" y="1924560"/>
                <a:ext cx="247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843640" y="1214280"/>
                <a:ext cx="102636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Phenotyp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27960" y="1747080"/>
                <a:ext cx="627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urp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027960" y="3162600"/>
                <a:ext cx="627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urp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029760" y="4507560"/>
                <a:ext cx="627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urp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019680" y="5453280"/>
                <a:ext cx="575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i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175080" y="1244520"/>
                <a:ext cx="9439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Genotyp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118920" y="1823040"/>
                <a:ext cx="11527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homozygou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102360" y="2952720"/>
                <a:ext cx="12045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heterozygou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115680" y="4042440"/>
                <a:ext cx="12045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heterozygou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08480" y="5349240"/>
                <a:ext cx="11527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homozygou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879640" y="6214680"/>
                <a:ext cx="797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atio 3: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219000" y="6224040"/>
                <a:ext cx="9255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atio 1:2: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The Testcros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pea plants with purple flo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otype is not immediately obv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estcro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us to determine the genotype of an organism with the dominant phenotype, but unknown g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es an individual with the dominant phenotype with an individual that is homozygous recessive for a tra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estcro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66480" y="5900400"/>
            <a:ext cx="11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4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8240" y="1523880"/>
            <a:ext cx="8687160" cy="4627440"/>
            <a:chOff x="228240" y="1523880"/>
            <a:chExt cx="8687160" cy="4627440"/>
          </a:xfrm>
        </p:grpSpPr>
        <p:sp>
          <p:nvSpPr>
            <p:cNvPr id="359" name=""/>
            <p:cNvSpPr/>
            <p:nvPr/>
          </p:nvSpPr>
          <p:spPr>
            <a:xfrm>
              <a:off x="228240" y="1761840"/>
              <a:ext cx="1523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81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4243680" y="1523880"/>
              <a:ext cx="4671720" cy="4627440"/>
              <a:chOff x="4243680" y="1523880"/>
              <a:chExt cx="4671720" cy="4627440"/>
            </a:xfrm>
          </p:grpSpPr>
          <p:pic>
            <p:nvPicPr>
              <p:cNvPr id="3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243680" y="1523880"/>
                <a:ext cx="4671720" cy="46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6587640" y="1876320"/>
                <a:ext cx="326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861080" y="2354040"/>
                <a:ext cx="164052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minant phenotype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nknown genotyp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P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r 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?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922800" y="2354040"/>
                <a:ext cx="169092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cessive phenotype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nown genotyp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877280" y="3538080"/>
                <a:ext cx="130824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f 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en all offsp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urpl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896520" y="3517920"/>
                <a:ext cx="1746720" cy="68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f 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en 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offspring purp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nd 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offspring whi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214240" y="42192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802840" y="42138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532760" y="473652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534200" y="531756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084640" y="5555880"/>
                <a:ext cx="372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773680" y="5558760"/>
                <a:ext cx="372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793120" y="4928760"/>
                <a:ext cx="372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096520" y="4921200"/>
                <a:ext cx="372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19520" y="5555880"/>
                <a:ext cx="355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008920" y="5560560"/>
                <a:ext cx="355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019720" y="4928760"/>
                <a:ext cx="372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323480" y="4922280"/>
                <a:ext cx="372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720120" y="475272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31280" y="537912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366320" y="423756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009640" y="423756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54240" y="1531800"/>
              <a:ext cx="3929400" cy="853920"/>
              <a:chOff x="354240" y="1531800"/>
              <a:chExt cx="3929400" cy="853920"/>
            </a:xfrm>
          </p:grpSpPr>
          <p:sp>
            <p:nvSpPr>
              <p:cNvPr id="384" name=""/>
              <p:cNvSpPr/>
              <p:nvPr/>
            </p:nvSpPr>
            <p:spPr>
              <a:xfrm>
                <a:off x="409680" y="1561680"/>
                <a:ext cx="937800" cy="152640"/>
              </a:xfrm>
              <a:prstGeom prst="rect">
                <a:avLst/>
              </a:prstGeom>
              <a:solidFill>
                <a:srgbClr val="009999"/>
              </a:solidFill>
              <a:ln w="349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54240" y="1531800"/>
                <a:ext cx="392940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APPLICATION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An organism that exhibits a dominant trait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uch as purple flowers in pea plants, can be either homozygous fo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he dominant allele or heterozygous. To determine the organism’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notype, geneticists can perform a testcross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420840" y="2765160"/>
              <a:ext cx="938160" cy="152640"/>
            </a:xfrm>
            <a:prstGeom prst="rect">
              <a:avLst/>
            </a:prstGeom>
            <a:solidFill>
              <a:srgbClr val="009999"/>
            </a:solidFill>
            <a:ln w="349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9120" y="2719440"/>
              <a:ext cx="3752640" cy="11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ECHNIQU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In a testcross, the individual with t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known genotype is crossed with a homozygous individu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pressing the recessive trait (white flowers in this example).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y observing the phenotypes of the offspring resulting from this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oss, we can deduce the genotype of the purple-flowered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1760" y="4559040"/>
              <a:ext cx="806400" cy="168480"/>
            </a:xfrm>
            <a:prstGeom prst="rect">
              <a:avLst/>
            </a:prstGeom>
            <a:solidFill>
              <a:srgbClr val="009999"/>
            </a:solidFill>
            <a:ln w="349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SUL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possible explanation of heredity is a “blending” hypoth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 that genetic material contributed by two parents mixes in a manner analogous to the way blue and yellow paints blend to make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aw of Independent Assort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 derived the law of segreg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ollowing a single 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fspring produced in this cro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monohybrids, heterozygous for one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6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 identified his second law of inheri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ollowing two characters at the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ossing two, true-breeding parents differing in two 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dihybrids in th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, heterozygous for both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are two characters transmitted from parents to offspr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pack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725760" y="2799000"/>
            <a:ext cx="8114040" cy="3711240"/>
            <a:chOff x="725760" y="2799000"/>
            <a:chExt cx="8114040" cy="3711240"/>
          </a:xfrm>
        </p:grpSpPr>
        <p:grpSp>
          <p:nvGrpSpPr>
            <p:cNvPr id="396" name=""/>
            <p:cNvGrpSpPr/>
            <p:nvPr/>
          </p:nvGrpSpPr>
          <p:grpSpPr>
            <a:xfrm>
              <a:off x="4955400" y="2835360"/>
              <a:ext cx="3884400" cy="3674880"/>
              <a:chOff x="4955400" y="2835360"/>
              <a:chExt cx="3884400" cy="3674880"/>
            </a:xfrm>
          </p:grpSpPr>
          <p:pic>
            <p:nvPicPr>
              <p:cNvPr id="39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18040" y="2835360"/>
                <a:ext cx="3729240" cy="363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>
                <a:off x="5922360" y="2859120"/>
                <a:ext cx="4683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YR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976280" y="2855880"/>
                <a:ext cx="8204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 Gener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71960" y="3184560"/>
                <a:ext cx="5994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amet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452640" y="3184560"/>
                <a:ext cx="32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907680" y="3184560"/>
                <a:ext cx="2703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04640" y="3190680"/>
                <a:ext cx="265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107480" y="2863800"/>
                <a:ext cx="355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yr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841080" y="3643200"/>
                <a:ext cx="4122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yR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012360" y="3715200"/>
                <a:ext cx="8053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ypothesis o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epend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ssort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196760" y="3711960"/>
                <a:ext cx="8053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ypothesis o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depend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ssort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973400" y="4802400"/>
                <a:ext cx="84816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Gener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redicte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fspring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000120" y="4468680"/>
                <a:ext cx="2689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106320" y="4478400"/>
                <a:ext cx="32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804640" y="4772160"/>
                <a:ext cx="32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829840" y="5079960"/>
                <a:ext cx="2703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4755960"/>
                <a:ext cx="28584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698800" y="5089320"/>
                <a:ext cx="28584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35280" y="4465440"/>
                <a:ext cx="2689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471360" y="4473720"/>
                <a:ext cx="2703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020640" y="4853160"/>
                <a:ext cx="4683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YR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56880" y="4853160"/>
                <a:ext cx="4122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yR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388200" y="5159520"/>
                <a:ext cx="355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yr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42600" y="5160960"/>
                <a:ext cx="4122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yR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962680" y="5383080"/>
                <a:ext cx="28584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310080" y="5395680"/>
                <a:ext cx="28584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406920" y="4341960"/>
                <a:ext cx="4852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per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573520" y="4654440"/>
                <a:ext cx="4183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gg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18320" y="5599080"/>
                <a:ext cx="10886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henotypic ratio 3: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095240" y="4583160"/>
                <a:ext cx="32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980040" y="4574880"/>
                <a:ext cx="28584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14320" y="4900680"/>
                <a:ext cx="2872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972120" y="4883040"/>
                <a:ext cx="28584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103160" y="5218200"/>
                <a:ext cx="3099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965640" y="5209920"/>
                <a:ext cx="28584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123680" y="5530680"/>
                <a:ext cx="2703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953040" y="5527440"/>
                <a:ext cx="28584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4480" y="5810040"/>
                <a:ext cx="3193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9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471440" y="5797440"/>
                <a:ext cx="3193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885800" y="5797440"/>
                <a:ext cx="3193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273160" y="5792400"/>
                <a:ext cx="3193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20960" y="4665600"/>
                <a:ext cx="4683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YR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665480" y="4667400"/>
                <a:ext cx="4287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YR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974360" y="4668840"/>
                <a:ext cx="4518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yR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293680" y="4660920"/>
                <a:ext cx="4122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yR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331480" y="4964040"/>
                <a:ext cx="3726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yr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992000" y="4964040"/>
                <a:ext cx="4122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yR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686000" y="4956120"/>
                <a:ext cx="389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Yr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371720" y="4970520"/>
                <a:ext cx="389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Yr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341120" y="5302080"/>
                <a:ext cx="4518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yR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672680" y="5303880"/>
                <a:ext cx="4122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yR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972560" y="5307120"/>
                <a:ext cx="434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yR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307360" y="5307120"/>
                <a:ext cx="3952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yR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337600" y="5624640"/>
                <a:ext cx="355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yr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988400" y="5621400"/>
                <a:ext cx="3952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yR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688520" y="5619600"/>
                <a:ext cx="3726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yr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344000" y="5621400"/>
                <a:ext cx="4122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yR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351920" y="6008760"/>
                <a:ext cx="12596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henotypic ratio 9:3:3: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55400" y="6289560"/>
                <a:ext cx="35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1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453640" y="6289560"/>
                <a:ext cx="35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36400" y="6292800"/>
                <a:ext cx="35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397920" y="6296040"/>
                <a:ext cx="2977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832440" y="6292800"/>
                <a:ext cx="19238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henotypic ratio approximately 9:3:3: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76640" y="3632040"/>
                <a:ext cx="8481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Gener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036920" y="4410000"/>
                <a:ext cx="4183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gg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423920" y="4278240"/>
                <a:ext cx="326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773120" y="4267080"/>
                <a:ext cx="2872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082720" y="4278240"/>
                <a:ext cx="3099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422200" y="4278240"/>
                <a:ext cx="2703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y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280280" y="4260600"/>
                <a:ext cx="28584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635600" y="4267080"/>
                <a:ext cx="28584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948440" y="4270320"/>
                <a:ext cx="28584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273880" y="4276440"/>
                <a:ext cx="28584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354520" y="4121280"/>
                <a:ext cx="4852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per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757080" y="4495680"/>
              <a:ext cx="806760" cy="168480"/>
            </a:xfrm>
            <a:prstGeom prst="rect">
              <a:avLst/>
            </a:prstGeom>
            <a:solidFill>
              <a:srgbClr val="009999"/>
            </a:solidFill>
            <a:ln w="349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SUL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725760" y="5127480"/>
              <a:ext cx="3611160" cy="549360"/>
              <a:chOff x="725760" y="5127480"/>
              <a:chExt cx="3611160" cy="549360"/>
            </a:xfrm>
          </p:grpSpPr>
          <p:sp>
            <p:nvSpPr>
              <p:cNvPr id="473" name=""/>
              <p:cNvSpPr/>
              <p:nvPr/>
            </p:nvSpPr>
            <p:spPr>
              <a:xfrm>
                <a:off x="763560" y="5164200"/>
                <a:ext cx="938160" cy="152280"/>
              </a:xfrm>
              <a:prstGeom prst="rect">
                <a:avLst/>
              </a:prstGeom>
              <a:solidFill>
                <a:srgbClr val="009999"/>
              </a:solidFill>
              <a:ln w="349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25760" y="5127480"/>
                <a:ext cx="361116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CONCLUSION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The results support the hypothesis of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dependent assortment. The alleles for seed color and seed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hape sort into gametes independently of each other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747720" y="2799000"/>
              <a:ext cx="3160800" cy="1352520"/>
              <a:chOff x="747720" y="2799000"/>
              <a:chExt cx="3160800" cy="1352520"/>
            </a:xfrm>
          </p:grpSpPr>
          <p:sp>
            <p:nvSpPr>
              <p:cNvPr id="476" name=""/>
              <p:cNvSpPr/>
              <p:nvPr/>
            </p:nvSpPr>
            <p:spPr>
              <a:xfrm>
                <a:off x="787320" y="2843280"/>
                <a:ext cx="938160" cy="152280"/>
              </a:xfrm>
              <a:prstGeom prst="rect">
                <a:avLst/>
              </a:prstGeom>
              <a:solidFill>
                <a:srgbClr val="009999"/>
              </a:solidFill>
              <a:ln w="349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47720" y="2799000"/>
                <a:ext cx="3160800" cy="13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EXPERIMEN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Two true-breeding pea plants—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ne with yellow-round seeds and the other with green-wrinkled seeds—were crossed, producing dihybrid F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plants. Self-pollination of the F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dihybrids, which are heterozygous for both characters, produced the F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generation. The two hypotheses predict different phenotypic ratios. Note that yellow color (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 and round shape (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 are dominant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ihybrid cro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s the inheritance of two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es four phenotypes in the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n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41200" y="6225840"/>
            <a:ext cx="11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4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6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the information from a dihybrid cross, Mendel developed the law of independent assor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ir of alleles segregates independently during gamet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14.2: The laws of probability govern Mendelian inheri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’s laws of segregation and independent assor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the rules of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Multiplication and Addition Rules Applied to Monohybrid Cross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ultiplication r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that the probability that two or more independent events will occur together is the product of their individual prob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  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ability in a monohybrid cro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etermined using this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130120" y="2057400"/>
            <a:ext cx="5195880" cy="4460760"/>
            <a:chOff x="2130120" y="2057400"/>
            <a:chExt cx="5195880" cy="4460760"/>
          </a:xfrm>
        </p:grpSpPr>
        <p:grpSp>
          <p:nvGrpSpPr>
            <p:cNvPr id="490" name=""/>
            <p:cNvGrpSpPr/>
            <p:nvPr/>
          </p:nvGrpSpPr>
          <p:grpSpPr>
            <a:xfrm>
              <a:off x="3048120" y="2057400"/>
              <a:ext cx="4277880" cy="4460760"/>
              <a:chOff x="3048120" y="2057400"/>
              <a:chExt cx="4277880" cy="4460760"/>
            </a:xfrm>
          </p:grpSpPr>
          <p:sp>
            <p:nvSpPr>
              <p:cNvPr id="491" name=""/>
              <p:cNvSpPr/>
              <p:nvPr/>
            </p:nvSpPr>
            <p:spPr>
              <a:xfrm>
                <a:off x="5003280" y="2122560"/>
                <a:ext cx="326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3048120" y="2057400"/>
                <a:ext cx="4277880" cy="4460760"/>
                <a:chOff x="3048120" y="2057400"/>
                <a:chExt cx="4277880" cy="4460760"/>
              </a:xfrm>
            </p:grpSpPr>
            <p:pic>
              <p:nvPicPr>
                <p:cNvPr id="4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48120" y="2195640"/>
                  <a:ext cx="4227480" cy="432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4" name=""/>
                <p:cNvSpPr/>
                <p:nvPr/>
              </p:nvSpPr>
              <p:spPr>
                <a:xfrm>
                  <a:off x="3082320" y="2057400"/>
                  <a:ext cx="12823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gregation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lleles into egg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952240" y="2065320"/>
                  <a:ext cx="13737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gregation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lleles into spe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6" name=""/>
                <p:cNvGrpSpPr/>
                <p:nvPr/>
              </p:nvGrpSpPr>
              <p:grpSpPr>
                <a:xfrm>
                  <a:off x="3057480" y="3254400"/>
                  <a:ext cx="2871720" cy="2940120"/>
                  <a:chOff x="3057480" y="3254400"/>
                  <a:chExt cx="2871720" cy="294012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>
                    <a:off x="4517640" y="3713040"/>
                    <a:ext cx="29484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5678280" y="3701880"/>
                    <a:ext cx="23544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5682960" y="4470480"/>
                    <a:ext cx="23544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5357520" y="4321080"/>
                    <a:ext cx="29484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4571640" y="4510080"/>
                    <a:ext cx="29484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4276440" y="4330800"/>
                    <a:ext cx="29484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3580920" y="4545000"/>
                    <a:ext cx="29484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3057480" y="4568760"/>
                    <a:ext cx="308160" cy="29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⁄</a:t>
                    </a:r>
                    <a:r>
                      <a:rPr b="0" lang="en-US" sz="12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4124160" y="3705480"/>
                    <a:ext cx="308160" cy="29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⁄</a:t>
                    </a:r>
                    <a:r>
                      <a:rPr b="0" lang="en-US" sz="12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5267160" y="3705480"/>
                    <a:ext cx="308160" cy="29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⁄</a:t>
                    </a:r>
                    <a:r>
                      <a:rPr b="0" lang="en-US" sz="12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5502240" y="4913280"/>
                    <a:ext cx="308160" cy="29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⁄</a:t>
                    </a:r>
                    <a:r>
                      <a:rPr b="0" lang="en-US" sz="12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4491000" y="4930920"/>
                    <a:ext cx="308160" cy="29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⁄</a:t>
                    </a:r>
                    <a:r>
                      <a:rPr b="0" lang="en-US" sz="12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4505040" y="5891400"/>
                    <a:ext cx="308160" cy="29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⁄</a:t>
                    </a:r>
                    <a:r>
                      <a:rPr b="0" lang="en-US" sz="12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5621040" y="5894640"/>
                    <a:ext cx="308160" cy="29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⁄</a:t>
                    </a:r>
                    <a:r>
                      <a:rPr b="0" lang="en-US" sz="12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3190680" y="5626080"/>
                    <a:ext cx="308160" cy="29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⁄</a:t>
                    </a:r>
                    <a:r>
                      <a:rPr b="0" lang="en-US" sz="12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3608280" y="5629320"/>
                    <a:ext cx="23544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4332240" y="5441760"/>
                    <a:ext cx="23544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4568400" y="5554800"/>
                    <a:ext cx="29484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5676840" y="5583240"/>
                    <a:ext cx="23544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5394240" y="5443560"/>
                    <a:ext cx="23544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4843800" y="3254400"/>
                    <a:ext cx="63468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Sper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8" name=""/>
              <p:cNvSpPr/>
              <p:nvPr/>
            </p:nvSpPr>
            <p:spPr>
              <a:xfrm>
                <a:off x="4962240" y="2112480"/>
                <a:ext cx="305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166920" y="5068800"/>
                <a:ext cx="5338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g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2130120" y="608436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4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ule of add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that the probability that any one of two or more exclusive events will occur is calculated by adding together their individual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olving Complex Genetics Problems with the Rules of Probabil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 apply the rules of prob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edict the outcome of crosses involving multipl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lternative to the blending model is the “particulate” hypothesis of inheritance: the gene id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 pass on discrete heritable units,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ihybrid or other multicharacter cro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quivalent to two or more independent monohybrid crosses occurring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alculating the chances for various genotypes from such cro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haracter first is considered separately and then the individual probabilities are multiplie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14.3: Inheritance patterns are often more complex than predicted by simple Mendelian gene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lationship between genotype and phenotype is rarely si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xtending Mendelian Genetics for a Single Gen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nheritance of characters by a single ge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deviate from simple Mendelian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The Spectrum of Dominance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domi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the phenotypes of the heterozygote and dominant homozygote are iden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odomi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ominant alleles affect the phenotype in separate, distinguishable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human blood group M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example of codom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incomplete domi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henotype of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hybrids is somewhere between the phenotypes of the two parental variet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977120" y="6248160"/>
            <a:ext cx="122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4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3284640" y="2286000"/>
            <a:ext cx="3268440" cy="4191120"/>
            <a:chOff x="3284640" y="2286000"/>
            <a:chExt cx="3268440" cy="4191120"/>
          </a:xfrm>
        </p:grpSpPr>
        <p:pic>
          <p:nvPicPr>
            <p:cNvPr id="539" name="" descr=""/>
            <p:cNvPicPr/>
            <p:nvPr/>
          </p:nvPicPr>
          <p:blipFill>
            <a:blip r:embed="rId1"/>
            <a:stretch/>
          </p:blipFill>
          <p:spPr>
            <a:xfrm>
              <a:off x="3284640" y="2286000"/>
              <a:ext cx="3268440" cy="4191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0" name=""/>
            <p:cNvGrpSpPr/>
            <p:nvPr/>
          </p:nvGrpSpPr>
          <p:grpSpPr>
            <a:xfrm>
              <a:off x="3293640" y="2420280"/>
              <a:ext cx="3134520" cy="3953520"/>
              <a:chOff x="3293640" y="2420280"/>
              <a:chExt cx="3134520" cy="3953520"/>
            </a:xfrm>
          </p:grpSpPr>
          <p:sp>
            <p:nvSpPr>
              <p:cNvPr id="541" name=""/>
              <p:cNvSpPr/>
              <p:nvPr/>
            </p:nvSpPr>
            <p:spPr>
              <a:xfrm>
                <a:off x="3309120" y="2420280"/>
                <a:ext cx="9288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Gene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293640" y="3929040"/>
                <a:ext cx="963720" cy="26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r>
                  <a:rPr b="0" lang="en-US" sz="10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Gene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299760" y="5459400"/>
                <a:ext cx="963720" cy="26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r>
                  <a:rPr b="0" lang="en-US" sz="10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Gene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016160" y="2606040"/>
                <a:ext cx="47448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239000" y="3162240"/>
                <a:ext cx="698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amet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860000" y="3169080"/>
                <a:ext cx="3146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900" spc="-1" strike="noStrike" baseline="30000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207040" y="3169080"/>
                <a:ext cx="3301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900" spc="-1" strike="noStrike" baseline="30000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011560" y="2625480"/>
                <a:ext cx="3160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921640" y="2477520"/>
                <a:ext cx="5065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i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530680" y="3745800"/>
                <a:ext cx="489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522760" y="5251320"/>
                <a:ext cx="556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per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855680" y="4602960"/>
                <a:ext cx="3146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900" spc="-1" strike="noStrike" baseline="30000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880160" y="5276160"/>
                <a:ext cx="3146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900" spc="-1" strike="noStrike" baseline="30000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462920" y="5627160"/>
                <a:ext cx="3146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900" spc="-1" strike="noStrike" baseline="30000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458960" y="6049440"/>
                <a:ext cx="3146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900" spc="-1" strike="noStrike" baseline="30000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270760" y="5276160"/>
                <a:ext cx="3146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900" spc="-1" strike="noStrike" baseline="30000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211720" y="4590360"/>
                <a:ext cx="3146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900" spc="-1" strike="noStrike" baseline="30000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103280" y="4565160"/>
                <a:ext cx="698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amet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696920" y="4429800"/>
                <a:ext cx="29664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1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056920" y="4466160"/>
                <a:ext cx="29664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1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122080" y="5245920"/>
                <a:ext cx="29664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1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292280" y="6000480"/>
                <a:ext cx="29664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1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293720" y="5573160"/>
                <a:ext cx="29664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1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310640" y="5311440"/>
                <a:ext cx="473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gg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709520" y="5238360"/>
                <a:ext cx="29664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⁄</a:t>
                </a:r>
                <a:r>
                  <a:rPr b="1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736520" y="5741640"/>
                <a:ext cx="4942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R 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120640" y="5744880"/>
                <a:ext cx="509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R 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122800" y="6125400"/>
                <a:ext cx="52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W 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728240" y="6129000"/>
                <a:ext cx="509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R 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6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lation Between Dominance and Phenoty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inant and recessive alle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really “interac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to synthesis of different proteins that produce a 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quency of Dominant Alle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inant alle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not necessarily more common in populations than recessive all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Multiple Allel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genes exist in popul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re than two allelic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BO blood group in hum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etermined by multiple all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1917000" y="2035080"/>
            <a:ext cx="5398200" cy="4464720"/>
            <a:chOff x="1917000" y="2035080"/>
            <a:chExt cx="5398200" cy="4464720"/>
          </a:xfrm>
        </p:grpSpPr>
        <p:sp>
          <p:nvSpPr>
            <p:cNvPr id="579" name=""/>
            <p:cNvSpPr/>
            <p:nvPr/>
          </p:nvSpPr>
          <p:spPr>
            <a:xfrm>
              <a:off x="1917000" y="6194160"/>
              <a:ext cx="1047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ble 14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0" name="" descr=""/>
            <p:cNvPicPr/>
            <p:nvPr/>
          </p:nvPicPr>
          <p:blipFill>
            <a:blip r:embed="rId1"/>
            <a:stretch/>
          </p:blipFill>
          <p:spPr>
            <a:xfrm>
              <a:off x="3006720" y="2035080"/>
              <a:ext cx="4308480" cy="4419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gor Men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ed a particulate mechanism of inheritance through his experiments with garden p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468080" y="3025800"/>
            <a:ext cx="5618520" cy="3375360"/>
            <a:chOff x="1468080" y="3025800"/>
            <a:chExt cx="5618520" cy="3375360"/>
          </a:xfrm>
        </p:grpSpPr>
        <p:sp>
          <p:nvSpPr>
            <p:cNvPr id="180" name=""/>
            <p:cNvSpPr/>
            <p:nvPr/>
          </p:nvSpPr>
          <p:spPr>
            <a:xfrm>
              <a:off x="1468080" y="609552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4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2667240" y="3025800"/>
              <a:ext cx="4419360" cy="330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Pleiotrop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pleiotrop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ene has multiple phenotypic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Extending Mendelian Genetics for Two or More Genes</a:t>
            </a:r>
            <a:endParaRPr b="1" lang="en-US" sz="27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tra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determined by two or more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Epistasi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pista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ene at one locus alters the phenotypic expression of a gene at a second l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xample of epista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531080" y="6237000"/>
            <a:ext cx="122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4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743200" y="1225440"/>
            <a:ext cx="4527720" cy="5251680"/>
            <a:chOff x="2743200" y="1225440"/>
            <a:chExt cx="4527720" cy="5251680"/>
          </a:xfrm>
        </p:grpSpPr>
        <p:pic>
          <p:nvPicPr>
            <p:cNvPr id="591" name="" descr=""/>
            <p:cNvPicPr/>
            <p:nvPr/>
          </p:nvPicPr>
          <p:blipFill>
            <a:blip r:embed="rId1"/>
            <a:stretch/>
          </p:blipFill>
          <p:spPr>
            <a:xfrm>
              <a:off x="2743200" y="1225440"/>
              <a:ext cx="4527720" cy="525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3650040" y="2400120"/>
              <a:ext cx="396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578840" y="2391480"/>
              <a:ext cx="380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493240" y="2391480"/>
              <a:ext cx="363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22040" y="2412720"/>
              <a:ext cx="346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19360" y="2401920"/>
              <a:ext cx="3081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⁄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290560" y="2379240"/>
              <a:ext cx="3081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⁄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350600" y="2379240"/>
              <a:ext cx="3081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⁄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34040" y="2387520"/>
              <a:ext cx="3081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⁄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967480" y="2972880"/>
              <a:ext cx="396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984400" y="3631320"/>
              <a:ext cx="380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991240" y="4365720"/>
              <a:ext cx="363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008520" y="5034960"/>
              <a:ext cx="346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768040" y="2935080"/>
              <a:ext cx="3081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⁄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765160" y="3607920"/>
              <a:ext cx="3081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⁄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69480" y="4324320"/>
              <a:ext cx="3081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⁄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766240" y="5013360"/>
              <a:ext cx="3081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⁄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533760" y="4341240"/>
              <a:ext cx="575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B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441680" y="4341240"/>
              <a:ext cx="558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B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70480" y="4336560"/>
              <a:ext cx="541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B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330600" y="4348440"/>
              <a:ext cx="524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B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24120" y="5021640"/>
              <a:ext cx="524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B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42200" y="4982760"/>
              <a:ext cx="507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b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490640" y="5029920"/>
              <a:ext cx="541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b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566880" y="5022720"/>
              <a:ext cx="558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B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585600" y="3646080"/>
              <a:ext cx="591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B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539960" y="3660840"/>
              <a:ext cx="575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b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457240" y="3685680"/>
              <a:ext cx="558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B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87120" y="3681000"/>
              <a:ext cx="541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b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564360" y="2971440"/>
              <a:ext cx="608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B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525920" y="2971440"/>
              <a:ext cx="591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B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50400" y="2974320"/>
              <a:ext cx="575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B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91440" y="2971440"/>
              <a:ext cx="558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B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39160" y="5868000"/>
              <a:ext cx="3571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⁄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582080" y="5869080"/>
              <a:ext cx="3571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⁄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62880" y="5860800"/>
              <a:ext cx="3571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⁄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73480" y="1458360"/>
              <a:ext cx="558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B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51400" y="1464480"/>
              <a:ext cx="558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B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871520" y="1485720"/>
              <a:ext cx="326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295080" y="2122920"/>
              <a:ext cx="660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806200" y="2698920"/>
              <a:ext cx="558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g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Polygenic Inheritanc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human 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 in the population along a continuum and are called quantitativ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3028680" y="2819520"/>
            <a:ext cx="3325680" cy="3681360"/>
            <a:chOff x="3028680" y="2819520"/>
            <a:chExt cx="3325680" cy="3681360"/>
          </a:xfrm>
        </p:grpSpPr>
        <p:pic>
          <p:nvPicPr>
            <p:cNvPr id="635" name="" descr=""/>
            <p:cNvPicPr/>
            <p:nvPr/>
          </p:nvPicPr>
          <p:blipFill>
            <a:blip r:embed="rId1"/>
            <a:stretch/>
          </p:blipFill>
          <p:spPr>
            <a:xfrm>
              <a:off x="3068640" y="2819520"/>
              <a:ext cx="3259080" cy="36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671360" y="2846520"/>
              <a:ext cx="326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35040" y="3062160"/>
              <a:ext cx="559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AaBb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928760" y="3071880"/>
              <a:ext cx="559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AaBb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98760" y="3790800"/>
              <a:ext cx="514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aabb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66680" y="3794040"/>
              <a:ext cx="526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Aabb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159800" y="3798720"/>
              <a:ext cx="538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AaBb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46080" y="3798720"/>
              <a:ext cx="559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AaBb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943880" y="3798720"/>
              <a:ext cx="5720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AABb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42040" y="3795840"/>
              <a:ext cx="584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AABB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48840" y="3795840"/>
              <a:ext cx="605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AABB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189960" y="4007520"/>
              <a:ext cx="3711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⁄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174120" y="4591800"/>
              <a:ext cx="3711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⁄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08320" y="5610960"/>
              <a:ext cx="3297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⁄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216240" y="6161760"/>
              <a:ext cx="3297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⁄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6214400">
              <a:off x="2417400" y="5081040"/>
              <a:ext cx="1503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ction of progen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itative variation usually indicates polygenic inheri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dditive effect of two or more genes on a single 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780560" y="6259320"/>
            <a:ext cx="122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4.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ature and Nurture: The Environmental Impact on Phenotyp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other departure from simple Mendelian genetics ari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henotype for a character depends on environment as well as on g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orm of re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henotypic range of a particular genotype that is influenced by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81840" y="2590920"/>
            <a:ext cx="7776360" cy="3581640"/>
            <a:chOff x="681840" y="2590920"/>
            <a:chExt cx="7776360" cy="3581640"/>
          </a:xfrm>
        </p:grpSpPr>
        <p:pic>
          <p:nvPicPr>
            <p:cNvPr id="659" name="" descr=""/>
            <p:cNvPicPr/>
            <p:nvPr/>
          </p:nvPicPr>
          <p:blipFill>
            <a:blip r:embed="rId1"/>
            <a:stretch/>
          </p:blipFill>
          <p:spPr>
            <a:xfrm>
              <a:off x="1676520" y="2590920"/>
              <a:ext cx="6781680" cy="35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681840" y="58669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4.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factorial 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ose that are influenced by both genetic and environment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Integrating a Mendelian View of Heredity and Variation</a:t>
            </a:r>
            <a:endParaRPr b="1" lang="en-US" sz="27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rganism’s phenoty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its physical appearance, internal anatomy, physiology, and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s its overall genotype and unique environmental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14.1: Mendel used the scientific approach to identify two laws of inheri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 discovered the basic principles of hered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breeding garden peas in carefully planned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n in more complex inheritance patte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del’s fundamental laws of segregation and independent assortment still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14.4: Many human traits follow Mendelian patterns of inheri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umans are not convenient subjects for genetic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 study of human genetics continues to ad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edigree Analysi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edigr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family tree that describes the interrelationships of parents and children across gen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heritance patterns of particular tra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traced and described using pedi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50360" y="6149520"/>
            <a:ext cx="1632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4.14 A,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55040" y="2139840"/>
            <a:ext cx="8464320" cy="3934440"/>
            <a:chOff x="455040" y="2139840"/>
            <a:chExt cx="8464320" cy="3934440"/>
          </a:xfrm>
        </p:grpSpPr>
        <p:pic>
          <p:nvPicPr>
            <p:cNvPr id="675" name="" descr=""/>
            <p:cNvPicPr/>
            <p:nvPr/>
          </p:nvPicPr>
          <p:blipFill>
            <a:blip r:embed="rId1"/>
            <a:stretch/>
          </p:blipFill>
          <p:spPr>
            <a:xfrm>
              <a:off x="568440" y="2184480"/>
              <a:ext cx="8192880" cy="29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1242720" y="2330640"/>
              <a:ext cx="4183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75160" y="2325600"/>
              <a:ext cx="3862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95800" y="2328840"/>
              <a:ext cx="3862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874600" y="2332080"/>
              <a:ext cx="4183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59480" y="3164040"/>
              <a:ext cx="3862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54120" y="3164040"/>
              <a:ext cx="4183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62000" y="3164040"/>
              <a:ext cx="4183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678320" y="3164040"/>
              <a:ext cx="3862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59360" y="3171960"/>
              <a:ext cx="3862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025280" y="3167280"/>
              <a:ext cx="4183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53000" y="4014360"/>
              <a:ext cx="450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405520" y="4017960"/>
              <a:ext cx="3862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w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047840" y="2139840"/>
              <a:ext cx="12474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rst gene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grandparent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985920" y="2892240"/>
              <a:ext cx="1486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ond gene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parents plus au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uncle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53840" y="3768840"/>
              <a:ext cx="10065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two sister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136560" y="2333520"/>
              <a:ext cx="3099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F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649200" y="2341440"/>
              <a:ext cx="3099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F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313400" y="2349720"/>
              <a:ext cx="2642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f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766640" y="2349720"/>
              <a:ext cx="3099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F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775280" y="3183120"/>
              <a:ext cx="2642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f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50840" y="3179880"/>
              <a:ext cx="3099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F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873120" y="3176640"/>
              <a:ext cx="3099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F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95920" y="3173400"/>
              <a:ext cx="2642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f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76240" y="3170160"/>
              <a:ext cx="3099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F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579280" y="3179880"/>
              <a:ext cx="6847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FF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r 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F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912000" y="3981600"/>
              <a:ext cx="2642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f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91440" y="3987360"/>
              <a:ext cx="35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F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F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54480" y="5106960"/>
              <a:ext cx="1126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idow’s pe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898360" y="5105160"/>
              <a:ext cx="136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 Widow’s pe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388840" y="5108400"/>
              <a:ext cx="1343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tached earlo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867080" y="5105160"/>
              <a:ext cx="1052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ee earlo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5040" y="5792760"/>
              <a:ext cx="2576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 Dominant trait (widow’s pea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622120" y="5799240"/>
              <a:ext cx="285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 Recessive trait (attached earlob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digr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be used to make predictions about futur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Recessively Inherited Disord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genetic disor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nherited in a recessive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ssively inherited disor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up only in individuals homozygous for the all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r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heterozygous individuals who carry the recessive allele but are phenotypically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Cystic Fibrosi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mptoms of cystic fibrosis inclu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us buildup in the some internal 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absorption of nutrients in the 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Sickle-Cell Diseas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ckle-cell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s one out of 400 African-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aused by the substitution of a single amino acid in the hemoglobin protein in red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mptoms inclu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weakness, pain, organ damage, and even par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Mating of Close Relativ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ings between rela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ncrease the probability of the appearance of a genetic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alled consanguineous ma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ndel’s Experimental, Quantitative Approac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 chose to work with p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y are available in many var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he could strictly control which plants mated with 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ominantly Inherited Disord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human disor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due to dominant all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example is achondroplas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m of dwarfism that is lethal when homozygous for the dominant all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2701080" y="2463840"/>
            <a:ext cx="3737880" cy="3940560"/>
            <a:chOff x="2701080" y="2463840"/>
            <a:chExt cx="3737880" cy="3940560"/>
          </a:xfrm>
        </p:grpSpPr>
        <p:sp>
          <p:nvSpPr>
            <p:cNvPr id="726" name=""/>
            <p:cNvSpPr/>
            <p:nvPr/>
          </p:nvSpPr>
          <p:spPr>
            <a:xfrm>
              <a:off x="2701080" y="609876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4.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7" name="" descr=""/>
            <p:cNvPicPr/>
            <p:nvPr/>
          </p:nvPicPr>
          <p:blipFill>
            <a:blip r:embed="rId1"/>
            <a:stretch/>
          </p:blipFill>
          <p:spPr>
            <a:xfrm>
              <a:off x="3956040" y="2463840"/>
              <a:ext cx="2482920" cy="388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untington’s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degenerative disease of the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no obvious phenotypic effects until about 35 to 40 years of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1215360" y="3576600"/>
            <a:ext cx="5642280" cy="2891520"/>
            <a:chOff x="1215360" y="3576600"/>
            <a:chExt cx="5642280" cy="2891520"/>
          </a:xfrm>
        </p:grpSpPr>
        <p:sp>
          <p:nvSpPr>
            <p:cNvPr id="731" name=""/>
            <p:cNvSpPr/>
            <p:nvPr/>
          </p:nvSpPr>
          <p:spPr>
            <a:xfrm>
              <a:off x="1215360" y="616248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4.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2" name="" descr=""/>
            <p:cNvPicPr/>
            <p:nvPr/>
          </p:nvPicPr>
          <p:blipFill>
            <a:blip r:embed="rId1"/>
            <a:stretch/>
          </p:blipFill>
          <p:spPr>
            <a:xfrm>
              <a:off x="2514600" y="3576600"/>
              <a:ext cx="4343040" cy="282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ultifactorial Disord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human dis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both genetic and environment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 inclu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 disease and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Genetic Testing and Counseling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counsel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vide information to prospective parents concerned about a family history for a specific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Counseling Based on Mendelian Genetics and Probability Rul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family histo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counselors help couples determine the odds that their children will have genetic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Tests for Identifying Carri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 growing number of dis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s are available that identify carriers and help define the odds more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Fetal Testing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mniocent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quid that bathes the fetus is removed and 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horionic villus sampling (CV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ample of the placenta is removed and 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tal te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59960" y="6205320"/>
            <a:ext cx="1632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4.17 A,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815760" y="1241280"/>
            <a:ext cx="6347160" cy="4975200"/>
            <a:chOff x="815760" y="1241280"/>
            <a:chExt cx="6347160" cy="4975200"/>
          </a:xfrm>
        </p:grpSpPr>
        <p:pic>
          <p:nvPicPr>
            <p:cNvPr id="747" name="" descr=""/>
            <p:cNvPicPr/>
            <p:nvPr/>
          </p:nvPicPr>
          <p:blipFill>
            <a:blip r:embed="rId1"/>
            <a:stretch/>
          </p:blipFill>
          <p:spPr>
            <a:xfrm>
              <a:off x="873000" y="1241280"/>
              <a:ext cx="6289920" cy="497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815760" y="1293840"/>
              <a:ext cx="10627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 Amniocentes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90840" y="1514880"/>
              <a:ext cx="64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niot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lu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ithdraw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74080" y="1973160"/>
              <a:ext cx="441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et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>
              <a:off x="1227240" y="2095560"/>
              <a:ext cx="52848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1245960" y="2505240"/>
              <a:ext cx="392040" cy="60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35200" y="3068640"/>
              <a:ext cx="5828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lacen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31440" y="3068640"/>
              <a:ext cx="485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ter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84440" y="2746440"/>
              <a:ext cx="52200" cy="36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044800" y="3078000"/>
              <a:ext cx="474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ervi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151000" y="2832120"/>
              <a:ext cx="9072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58120" y="2475000"/>
              <a:ext cx="819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entrifug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795040" y="1556640"/>
              <a:ext cx="9471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sample o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mniotic fluid ca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e taken starting a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14th to 16t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eek of pregnancy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991320" y="1287360"/>
              <a:ext cx="1896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b) Chorionic villus sampling (CV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126880" y="3351240"/>
              <a:ext cx="406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lu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455920" y="345744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25440" y="3483360"/>
              <a:ext cx="412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et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el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2455920" y="3613320"/>
              <a:ext cx="21888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02600" y="3936600"/>
              <a:ext cx="12106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iochemical tests can b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erformed immediately 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amniotic fluid or la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n the cultured cell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997920" y="4928760"/>
              <a:ext cx="1254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etal cells must be cultur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or several weeks to obta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fficient numbers f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aryotyping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995200" y="4781880"/>
              <a:ext cx="531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ver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eek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495240" y="4289760"/>
              <a:ext cx="78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iochemic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es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11160" y="4813560"/>
              <a:ext cx="531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ver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708080" y="3551400"/>
              <a:ext cx="412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et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el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5076360" y="3738240"/>
              <a:ext cx="27324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086360" y="2828880"/>
              <a:ext cx="5828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lacen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4392360" y="2419200"/>
              <a:ext cx="182520" cy="46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632120" y="2833560"/>
              <a:ext cx="7992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orionic viI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4952880" y="2625840"/>
              <a:ext cx="44640" cy="24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732200" y="2644920"/>
              <a:ext cx="20808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634000" y="1555200"/>
              <a:ext cx="1274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sample of chorionic villu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issue can be taken as earl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 the 8th to 10th week o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egnancy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871960" y="2408760"/>
              <a:ext cx="927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ction 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erted throug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ervi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442120" y="2525760"/>
              <a:ext cx="474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614560" y="2224080"/>
              <a:ext cx="441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et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035680" y="2139840"/>
              <a:ext cx="633240" cy="1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624280" y="4467960"/>
              <a:ext cx="1314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aryotyping and biochemic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sts can be performed 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fetal cells immediately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oviding results within a d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 so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628440" y="5823000"/>
              <a:ext cx="779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aryotyp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Newborn Screening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genetic disorders can be detected at bir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imple tests that are now routinely performed in most hospitals in the United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ossing pea pl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54000" y="6117840"/>
            <a:ext cx="11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38080" y="1206360"/>
            <a:ext cx="7619760" cy="5150160"/>
            <a:chOff x="838080" y="1206360"/>
            <a:chExt cx="7619760" cy="5150160"/>
          </a:xfrm>
        </p:grpSpPr>
        <p:grpSp>
          <p:nvGrpSpPr>
            <p:cNvPr id="190" name=""/>
            <p:cNvGrpSpPr/>
            <p:nvPr/>
          </p:nvGrpSpPr>
          <p:grpSpPr>
            <a:xfrm>
              <a:off x="4807440" y="1206360"/>
              <a:ext cx="3650400" cy="5150160"/>
              <a:chOff x="4807440" y="1206360"/>
              <a:chExt cx="3650400" cy="5150160"/>
            </a:xfrm>
          </p:grpSpPr>
          <p:pic>
            <p:nvPicPr>
              <p:cNvPr id="19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807440" y="1206360"/>
                <a:ext cx="3650400" cy="515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>
                <a:off x="6071040" y="1263240"/>
                <a:ext cx="2491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428240" y="5047200"/>
                <a:ext cx="2491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286760" y="4485600"/>
                <a:ext cx="2491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843800" y="3715560"/>
                <a:ext cx="2491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040520" y="1640880"/>
                <a:ext cx="2491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256440" y="1245240"/>
                <a:ext cx="123948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moved stame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purple flow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183440" y="1621800"/>
                <a:ext cx="127008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ferred sperm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earing pollen fro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amens of whit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lower to egg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earing carpel of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urple flower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809600" y="2898720"/>
                <a:ext cx="8326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arent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gene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P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001840" y="3691080"/>
                <a:ext cx="113148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ollinated carp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tured into po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07520" y="3502440"/>
                <a:ext cx="6483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rp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fema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598080" y="3180240"/>
                <a:ext cx="168480" cy="45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188480" y="3386880"/>
                <a:ext cx="68328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ame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ma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457400" y="3205440"/>
                <a:ext cx="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445160" y="4477680"/>
                <a:ext cx="985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lanted seed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po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584120" y="5027760"/>
                <a:ext cx="7459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xamin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ffspring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l purp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low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812120" y="5245560"/>
                <a:ext cx="838800" cy="72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Firs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gene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offspr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F</a:t>
                </a:r>
                <a:r>
                  <a:rPr b="1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886320" y="1514160"/>
              <a:ext cx="923400" cy="149760"/>
            </a:xfrm>
            <a:prstGeom prst="rect">
              <a:avLst/>
            </a:prstGeom>
            <a:solidFill>
              <a:srgbClr val="009999"/>
            </a:solidFill>
            <a:ln w="349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8080" y="1479960"/>
              <a:ext cx="33548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By crossing (mating) two true-breed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rieties of an organism, scientists can study patterns o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heritance. In this example, Mendel crossed pea pla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at varied in flower colo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892440" y="2905200"/>
              <a:ext cx="923400" cy="150120"/>
              <a:chOff x="892440" y="2905200"/>
              <a:chExt cx="923400" cy="150120"/>
            </a:xfrm>
          </p:grpSpPr>
          <p:sp>
            <p:nvSpPr>
              <p:cNvPr id="211" name=""/>
              <p:cNvSpPr/>
              <p:nvPr/>
            </p:nvSpPr>
            <p:spPr>
              <a:xfrm>
                <a:off x="892440" y="2905200"/>
                <a:ext cx="923400" cy="150120"/>
              </a:xfrm>
              <a:prstGeom prst="rect">
                <a:avLst/>
              </a:prstGeom>
              <a:solidFill>
                <a:srgbClr val="009999"/>
              </a:solidFill>
              <a:ln w="349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TECHNIQU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920520" y="2905200"/>
                <a:ext cx="848160" cy="150120"/>
              </a:xfrm>
              <a:prstGeom prst="rect">
                <a:avLst/>
              </a:prstGeom>
              <a:solidFill>
                <a:srgbClr val="009999"/>
              </a:solidFill>
              <a:ln w="349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TECHNIQU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891000" y="4985640"/>
              <a:ext cx="3970080" cy="701640"/>
              <a:chOff x="891000" y="4985640"/>
              <a:chExt cx="3970080" cy="701640"/>
            </a:xfrm>
          </p:grpSpPr>
          <p:sp>
            <p:nvSpPr>
              <p:cNvPr id="214" name=""/>
              <p:cNvSpPr/>
              <p:nvPr/>
            </p:nvSpPr>
            <p:spPr>
              <a:xfrm>
                <a:off x="934560" y="4985640"/>
                <a:ext cx="39265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en pollen from a white flower fertiliz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ggs of a purple flower, the first-generation hybrids all have purp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lowers. The result is the same for the reciprocal cross, the transf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f pollen from purple flowers to white flowers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891000" y="5033520"/>
                <a:ext cx="923400" cy="150120"/>
                <a:chOff x="891000" y="5033520"/>
                <a:chExt cx="923400" cy="1501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891000" y="5033520"/>
                  <a:ext cx="923400" cy="150120"/>
                </a:xfrm>
                <a:prstGeom prst="rect">
                  <a:avLst/>
                </a:prstGeom>
                <a:solidFill>
                  <a:srgbClr val="009999"/>
                </a:solidFill>
                <a:ln w="349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TECHNIQU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919080" y="5033520"/>
                  <a:ext cx="848160" cy="150120"/>
                </a:xfrm>
                <a:prstGeom prst="rect">
                  <a:avLst/>
                </a:prstGeom>
                <a:solidFill>
                  <a:srgbClr val="009999"/>
                </a:solidFill>
                <a:ln w="349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RESUL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genetic vocabul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: a heritable feature, such as flower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t: a variant of a character, such as purple or white f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xx</cp:lastModifiedBy>
  <cp:lastPrinted>2004-11-22T08:14:23Z</cp:lastPrinted>
  <dcterms:modified xsi:type="dcterms:W3CDTF">2004-11-22T12:56:19Z</dcterms:modified>
  <cp:revision>767</cp:revision>
  <dc:subject/>
  <dc:title>video slide</dc:title>
</cp:coreProperties>
</file>